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EFF-473F-4597-A5F1-32C2574F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985-71B9-46C9-8E99-E1E6284B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D3D01-0CA9-45A9-8DDA-6AAE04E8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F9A27-1496-4DB5-B8A0-316DA578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8517A-8484-436F-AD83-F19AEE7D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2E590-B727-4E0E-BBCB-33554F50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9DD09-2049-4F49-9134-6BF87B2E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F656A-E814-4491-A5B2-5EEB5C3E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FAD20-B5B6-4352-B20E-E363902B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82EE7-43A9-474A-8809-FED43EDB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46F28-6123-4EDE-B9C5-A528FEE4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33394-39F1-4C73-9A78-1062D824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79D-F143-49E9-94BF-06A9605A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BF0FB-5F27-4BF3-A114-6A64AAE0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2D106-A7EE-43DB-9B8C-BA4FBE4D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0978B-61CC-47B2-A1BD-B976C5B8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518B5-EFAC-4BFA-9930-99FC6BB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8A16D-E4BE-4362-A1B7-064A6497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78238-8A79-4FF5-B5A0-B8DD8FED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6177A-F558-4517-9D5E-64CF7438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A0906-B9EE-4F4F-A59D-A643E4D3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A3DE0-B855-4F54-822B-D8BD4579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BE837-0BAA-4594-9805-67F99D18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80B-2F45-4DAD-BE28-FA5FB6E8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DCF15-F902-407E-9395-ADD0C2B6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48BA7-EED9-439D-8945-E43F9941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415C7-39C1-49BC-B85F-37A3107C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E88D6-2175-4A6A-AC4C-705DEFFE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38388-14F6-4BF9-83F4-F9AE9531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C6132-1B5F-4026-9DA6-5D4BF41E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01FDC-A52E-4A54-9E21-46E4C0FB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9B84E-A731-4558-84C6-B5E2ECB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973A0-BD6D-4E62-A42C-1BA9A242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0709E-5600-46F7-920A-FE7882B0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5A3C-6DC4-431D-8512-2E2DCB95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BCEE2-8038-446D-A858-2B9F3A93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4D987-B2B8-4E7F-B99E-0F5EDC6A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38859-C4A7-490F-8BAD-8B895BFC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F014E-6E4C-4894-B21E-1551EAEB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88855-1DB2-481A-B119-DEC9553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34EDE-2AE0-49FB-90A5-314D57FB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EF484-190B-4007-9FC7-D5D88831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5C029-BEB3-4A91-93D4-9521076A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9EBA4-CF75-4AAD-86CB-FE817DC8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4F52F-C634-49C9-A676-311EA9B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20B4-4885-4CB6-BBB6-B9DD29C2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24B91-D96C-431C-B5D2-6751480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EB026-2331-4332-BC2E-1A1731C7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04E2E-00C6-4CDC-9451-D4023222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DD200-D3A5-4A09-B41B-E7E314F1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0EB07-9BD2-4924-80EE-E1ADDE84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759FB-86C1-41E3-B338-8E283AAD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85D03-D31D-48FC-91AD-A9D04354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E720A-8B4D-4AA3-824F-054E58D0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D2E0A-146A-4808-913D-18CDA599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97D3A-1D59-49F4-A114-3B9A89C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590F-1452-41DD-A0AC-0B7464B0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4F18B-A4E6-4C64-B4A8-AC8BFD9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5555E-BA42-4803-B5A4-FA9129F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6C021-604E-46BC-B936-A4048906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73F0B-E35C-4C8F-B96E-8D5EA7F4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36ACB-3D91-46E8-A962-5C5896E8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9F66A-0039-4153-8B47-9574BA48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51BE5-D6AC-418D-9B86-409700F5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F00E5-2ED2-4725-A94D-9DB70CA3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43AF3-A6D3-4FC3-A71F-F400F92F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10247-5ED0-48CD-96A6-A670060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F7CA-931C-4E9D-B69E-4F2D6637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D7E1D-3231-4CA8-99E3-F5AE84F8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08DB9-E8D5-4C4A-BAB9-120137F0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2F3F0-6438-4818-9110-1C62AEE0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F1ED2-918E-4518-9542-F0B882E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66F94-DD4E-47D1-A8FC-6E4F33B4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7245A-3765-4501-AE47-8E02A207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78F94-98EB-4441-AD60-41B63A3B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3C158-AE75-4551-B7D5-0444E05B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490F3-2E31-44F4-9894-8DDC91F53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45176-8E42-47C2-A6D5-6205039F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A07B-98C0-4285-AC72-7EAD8690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15358-A56A-4F96-8FD7-C0B2F263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A11BA-2B51-400C-B949-8510DB2D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91BED-8F3A-49CA-926A-9CF956C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DB15B-C406-4525-843B-A4D42711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6014F-684A-4BBB-B630-09B615DC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7761D-BD77-4D74-BB29-20AA47D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9A410-DC8D-4A96-A167-14F74AB9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E5ADD-72B6-47C6-99D0-D4592DF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5E3D8-854A-4C1D-B8B2-14EA7ED3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DEFD6-C88E-4D72-AEC9-3336C95F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DC96-A273-4EC9-B311-A4E6EAE9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C9923-29B5-4A4B-94F3-CF9868CA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DF8FE-337B-4F1B-802F-812C8DED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8228B-B2DA-4BA3-A340-7DAC5F88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34E97-BE22-4061-8292-15C90BD1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95423-FC28-4434-8579-B3256D63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C81C63-054B-4CB6-92E1-3A189900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D808A-5A5A-4BD5-9638-CF12F1A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40A38-1D03-4511-BB3F-B9AE4600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AEC89-ECE1-4A71-8DC2-E329BE8E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E1786-A567-43A3-B4B7-5B317CD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971F-4329-4451-921F-27D17A5B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83044-C6AB-4F13-AFD3-05C3CD63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AA40B-7FBB-45FA-B1A2-399A2DA2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47465-4DB5-4663-88BC-A3F34E05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86724-1BE1-497E-8DFA-47EEF2CF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C2E99-90F3-40F1-BA15-B2AF451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4B824-E292-4F2C-B356-35862ED2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12FBD-B5AF-447B-B256-C0EE0666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0494F-E327-407B-997A-58C4F75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A70AF-BF1B-4FD7-90A3-1D479884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C5BB1-3773-42CD-94E8-E6A6B4D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C91-D1E5-4C62-8060-5FFF524A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159A-38C1-45A2-9BA8-5BD672A4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F13BB-CF1D-4885-8E74-E698C584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F5071-EBD8-4887-AEC2-DC9AC22A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947E3-AECF-4197-AB6B-3D5E557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ACB8F-F41D-4896-B290-43764384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5C82DA-9916-4D62-AFBD-15C1B350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2FED1-F1C9-4D58-BD21-83C952EE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34FA5-70BD-429A-AD06-196ECE42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2FBA3C-D746-4C92-9B2A-CA50ECC8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DF190-139E-46AA-9BB6-4502CE17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62132-7739-4E9A-AD07-862AB01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681D-1022-4AC9-9A9B-85ED4B4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00F2C-AE4D-455D-9AAC-543519E5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6F0C5-34D9-47F4-BC81-93828CC0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8F183-36DA-4703-80B8-8091768A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6CD4A-0009-467D-8105-DD95EC2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09B34-E9C0-40FB-A1E5-49572491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238E8A-34FB-456E-BEA8-C6767EDD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D8FE9-DB4D-4D02-9A25-E0AB2947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1D377-1958-4834-8FC9-27539F7E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6DE003-4DF5-49E7-B853-38F63770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902BE-A44C-417C-8333-00AD27B9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8614-788D-43C7-B39B-E3014F8D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E6CBC-DF57-415C-B626-55041BEB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5EB67-A504-43C0-BEA4-74C7A463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E1179-1D92-4E3A-A66A-E6BC6CA7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71FD0-5E3C-4C8D-8595-88B8374B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23D97-712F-4754-8DC8-6C844136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34FF9-3D8D-497E-91F5-9E70452D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53CD6-3090-4AE8-8FA3-60ADB1A5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A9EBC0-8526-4A7B-8ABA-D34086C8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D1FC7-D1CD-4318-B198-C4CEE140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8D220B-7BCB-46F0-9381-2FEC18EC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1B14-6B7E-42D0-9B8C-FAB9F66F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752E6-E189-41B8-AF54-5AF67C2C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0C472-6516-49CB-80FD-83F3639E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33E536-DE38-4176-BE72-F4D30D09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8BEEA-143E-425D-AE26-41EEC94C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FCAB9-C9ED-45EF-B17A-13765EBE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CD336-7961-44A1-8FE7-EFECD517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ACA00-845B-4334-A9BA-CE82EA98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58F61-A1A3-4CCD-A020-6331C73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57726-FF47-4732-AB06-4701085A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1D4A44-A930-47D4-B66F-CA5C3F79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09C-6673-4D95-948F-16229A01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7E23D-4A12-4F5E-BCA2-0FA197B3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18D937-6C36-4410-9669-ADF0E1DE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A77B4-2A21-47F6-83D5-F358B7CE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72AFF6-9D13-4C9B-90F5-00601639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02EA7-774D-4A62-93B1-B4908278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110304-341F-4E44-8332-90C1FA2C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57508-53C1-4480-92F9-034F6C72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B2956-4053-4731-8B33-2923845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249983-C17D-4B90-B7AE-C30292A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5BC899-A84C-4878-8397-87BFCF6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8EDAA-F433-4694-A820-82EE7D1C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3AD86-AF8E-449F-B262-EAED4172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F9DF58-0733-48CE-8560-7F8A1CCE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22858-8785-4575-B027-878A0245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A412-2A65-4A6F-B896-80CF3B9C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E523-A58B-46CF-8D30-00EC8C13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315C-7196-4FA3-9C15-5D6B197D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90782-46EB-42A9-A3DF-E4D0F730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1C4-3B5B-4D64-9306-8395570A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461E-0065-441A-AB15-F95FABBC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CA65-A4E4-481D-A7D7-D764F44A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B0F2-DD57-4218-8ABE-95E5DEE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6B76-A1BE-4C50-A877-CBBE8BB8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09C6-24C0-468F-A7CC-93588743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CABF-B624-416F-AFDF-6F9AE1C9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35F2-96B4-4DCE-8AA9-FDF77430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3A4F-8950-4476-9DAF-3497CE6A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D3AA6-668F-4A2A-B814-32088A64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BF32-F7D8-408F-8A88-2EB94780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02C-F010-4600-84C7-AC13977C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D6744-19C3-4826-B573-2B490A5C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9D5A-47A3-488C-AD6A-A0592266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2BE9-3285-4531-AF0C-69F5F147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4F97-980C-4F0D-A200-E2B6DAD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F5C17-6CD6-4163-9F38-7194E3F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B395D-0AB2-4E53-A520-4DBC31EA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42355-4862-4A1A-94D2-3DF3B2F7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9C36-9440-4465-97C3-94293231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1B473-F97A-487F-A1BA-E15EBC69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B74A-2FF3-4737-8845-27146513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904-642B-4CC6-899D-8777EC1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75FF-33CB-4804-8362-5D2DE509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8BF7D-C436-427F-8A9F-9A11A8C6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5DE9-BA03-4F9D-B3FA-1DCF9926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E4C0-21A0-4243-9625-5C7691D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EFB35-27E1-43CC-87A1-91CBB9E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07B1D-C9DA-4672-98B5-F341C121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78D8-0BD5-4B2C-8D3D-B02B5A48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4BA8-27E6-4B6E-8B59-0DB0CA58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0D4F4-883C-4FC0-AEBE-EFA89FE2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530E9-55E8-48CD-AED5-F5ADCE95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EBF-6176-4AB7-83B8-3840EB17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16B74-6A24-42B9-85C6-6611DE5D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75DB1-4EBC-4F9E-A08F-682A7DC6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86C6-480E-4185-98A3-D82B957B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FF3E-024C-4A97-B608-4F103BF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CDF69-241A-4720-BC02-3BB8C551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92DDF-BF61-41C9-B344-3510470B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D07C-DC0F-4EBB-8866-0194000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7B35-7075-448B-970C-21F4EBA8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A52F3-55EE-4818-BFB6-0B6AB893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1CEB3-6774-45D3-860E-D9C432BF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E50-DFB7-4187-950C-5648270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2D109-20D3-4D96-810B-49395B10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7E871-4776-4FA9-BA9A-CAE7005D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B3262-464B-4B52-89F4-7F3F1B89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2CD31-D523-4342-9C2D-471F28A4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C3B81-EFC1-482E-BC3B-57E64D79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4F80F-D335-4585-816E-571AD4C7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82FA-8A57-4389-B231-A8EAEAED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A9758-4145-4244-AC2F-1285C040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43FCC-DE29-4AD6-AA85-90042BA7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DEA66-C86E-4362-9A0E-DBCAC78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8F4-BDD7-441C-AF18-006BCAB8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15D6D-226C-4566-8657-2A53181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A8AB-A68F-4F12-8B9C-787A583E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39646-957D-4EF3-BE9E-FE7260A0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AB510-732B-44A3-9C11-2586C46A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D9CAB-C98D-4555-835C-B794545B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5B0E1-EA41-4946-9470-DDA9FB71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36E82-D548-4948-A34B-D5E66C41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D7470-8097-42C8-BFEB-47385C48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F03FB-BFB7-424F-840D-D04632EC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0BDB7-D92C-4901-A1D0-D1624880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E48-BB4E-4A00-923A-C4C07E24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FD644-F811-43A1-9317-9AF8011F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2C3EE-610D-4085-8A35-722BB0ED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3F8FA-4DBB-48FD-A864-EAD8D747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A756A-34B1-4855-9442-95279075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ED80C-1B2A-4315-B507-08156A05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1C9A7-CABB-4CC7-9521-303EC4F8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92449-9B31-4DB8-8EBC-C8411AE6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1B7E2-88C0-43E4-BD1C-67C08DE5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EDC6B-1AB8-4E24-8DB7-E3E49EE6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0AC8D-C421-43AF-89AD-D7923FC2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1AC1-85FC-4258-B7A6-C09AFB0F6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B240-9447-45D3-9E2A-5A10BBEEE6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5025-00FD-4480-9006-4A5D0ED7D7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735D-1398-4AFF-9619-CFF1C8167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396C-2314-43A1-9210-85597F8CC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AAB0-1340-49BC-899D-262F67F31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1380-3C28-4B6C-A707-A646348C6F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53A7-E0E3-4F02-B0F3-FC751A443B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E7A2-4527-433C-850E-F547176CA3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66C8-8198-4FC9-A25A-B11D08E881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62B3-8D65-49D8-AA34-E0E0A242EB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31C1-7660-4081-9EAE-E9677C794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1342-10D7-40E5-982C-29D91B5D16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AB9E-1A5C-4C7E-8C55-A46A6E7F77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13E8-E503-4109-8170-46A5A9ADC9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25CE-3959-4F43-B784-F7223D6A5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5C19-C916-4D53-9F2E-63FB1DDEB3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5F01-100B-46D4-8564-F887683BC9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4967-C986-4D2B-8606-08918D2E1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0536-D8EB-40F4-872A-540A7FB47D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E50E-988B-4249-AC29-03FE0DE14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E672-B56B-47FD-AC90-A90A5D058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95FB-367E-4673-B48A-B718BE2430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0CF-9C48-4956-BCD2-3B0065B94C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0F01-D524-4AE2-9EF5-3C0964BCEE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D61C-55E0-4C78-B0F6-415CD60D95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BD63-9596-482B-BA48-C56625724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9468-B4A4-497F-8AEE-DCEB4ED01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094B-1302-484D-9A7A-6A6C859606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26CF-298B-4A0C-8F57-57A2B55882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D64D-2F9E-43B7-A259-1D999BC9C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43B4-C7D7-4AA2-A376-59C76550A6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0E6A-AE6B-4B39-886F-F15FD62D8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05D1-30B7-42E2-89CD-DE98ED19A0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45FE-6E89-4326-A5CC-169A0A2204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465C-F38D-4E3B-8CD5-98803244C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54B-CDA9-4DF0-8C5C-704D3B3732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E74F-1147-42E6-998C-E2EC71919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1DDA-D273-4D04-943D-9F978E36E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EB20-1F5E-4600-86A6-50005E9C6D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50920" y="3402000"/>
            <a:ext cx="8677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826920" y="735120"/>
            <a:ext cx="7631280" cy="6078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979640" y="20541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979640" y="3284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979640" y="4508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2052720" y="57326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611280" y="739800"/>
            <a:ext cx="7975440" cy="60739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3348000" y="25480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3500280" y="317196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3492360" y="443088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3492360" y="5672160"/>
            <a:ext cx="64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538200" y="1198440"/>
            <a:ext cx="8067600" cy="50389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1619280" y="321300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1619280" y="515160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372440" cy="485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64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1187280" y="4365720"/>
            <a:ext cx="64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004240" cy="6141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2"/>
          <a:stretch/>
        </p:blipFill>
        <p:spPr>
          <a:xfrm>
            <a:off x="1619280" y="198900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3"/>
          <a:stretch/>
        </p:blipFill>
        <p:spPr>
          <a:xfrm>
            <a:off x="1619280" y="392760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542880" y="930240"/>
            <a:ext cx="8058240" cy="5667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1"/>
          <a:stretch/>
        </p:blipFill>
        <p:spPr>
          <a:xfrm>
            <a:off x="824040" y="981000"/>
            <a:ext cx="7495920" cy="55436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649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871560" y="1285920"/>
            <a:ext cx="7400880" cy="42861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2"/>
          <a:stretch/>
        </p:blipFill>
        <p:spPr>
          <a:xfrm>
            <a:off x="1258920" y="1335240"/>
            <a:ext cx="64908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64908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5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